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camera.wav" ContentType="audio/x-wav"/>
  <Override PartName="/ppt/media/image2.gif" ContentType="image/gif"/>
  <Override PartName="/ppt/media/image11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63DB-F171-4F45-BB83-52B09CCE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3BD-6D6C-40C8-85B1-10B3550F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71EDC-C67C-4151-801B-CDBBAD59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2DDF3-5087-4907-9CD6-E30E73C2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55165-0FDD-4C07-AD9B-181BF12B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A8FA6-7E11-45FD-AFF8-76EA9525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08C05-2208-4C68-89B2-05D528B2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E75EF-12A6-4C93-8ACF-6A1F6D73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F33D3-D9D2-44BB-9061-D63F1254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8206D-297A-4C07-9674-AE36BA29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DD51F-8ED9-4635-BB04-6158E692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A0281-A3FD-467D-A0CA-D607EC42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1DC3-C257-4F80-B339-63FEEC90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C2ED6-8C25-40FC-B6CD-86150EA2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2DA49-764E-4B53-A2AB-B9FC32C5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62FBC-2EB9-421F-B0F7-0DD90CA1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D1EDD-27C3-4189-83F7-9CA680D6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F8311-B211-4483-9347-AEF45EAA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01BDF-654E-475B-AF67-137D968E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D5D64-9611-4C87-8AFC-FFE75676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D565F-7498-47F5-8884-B8AAB402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FD03C-79A2-496B-AD30-78A90931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5D10C-F141-4F85-8924-27AFB1DC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9414-2455-4AC9-89A3-7173DF17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FF424-E0EE-4145-8A5B-67AAE2C8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53DD9-E662-4649-81B8-587BF633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D4181-B309-462F-A5EC-0420241C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20B25-574E-4DA5-A764-5AAA6A3B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0E61C-91F8-4019-B255-44569A30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DF632-16D1-4180-A69B-7613E7FC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8A186-7336-4B43-982B-0E198F05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CA0F5-2C43-46B0-8C92-C4E2C624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3DE54-1078-409D-8170-D308B895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1F0AB-6F88-4D38-B798-7CB454CD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CB4C-CCD3-45FC-84B9-4959BF7A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12C3C-5FED-4DB2-BB91-39EB6547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5B167-032C-4540-9626-139C9928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94067-38EE-4B88-B5D1-B1009C41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091A0-DD82-49B2-9DFA-FD392DCB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52975-1B64-4A2A-BED2-9E95237A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1F634-2942-48F4-877C-C44A26D3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D0DAB-7585-405B-8803-BB91A7CE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FCC34-AB00-4C20-BD12-4F780A42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A344E-AD88-4266-AAD4-DBAF2A94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11753-0F6F-415A-BAD5-F2651703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A77D-756E-4AAB-A1DC-441303EA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14D71-6137-4892-A101-0F91DB26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C1059-DE9F-4C02-BAAB-73F7F974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BAFDF-AB3D-4D5B-A8FE-9B4D08A7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DAF3E-7FFC-4598-80FD-4E79115E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A350B-6870-4B53-BEF9-A42ECD69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A6DF-F68F-4662-9F72-3232177F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B484-FC9B-43B6-9FD8-A396B8A4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C2E9-8DC9-4324-81CF-47466013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1CC0-A943-4FD6-8AA8-D27C7DDA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074E-31F5-4FAC-BBD1-2E2EAECF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7EC-B4FA-478B-87EC-D42AA59C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CF4B-9B56-46DD-9531-1A1BFDBF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147A-9B4D-4D98-AC74-B97F7205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087A-827C-49D1-9EF9-63BE560A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C858-F6AA-4934-AC98-526AD13F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CE9E-3B60-4794-8B27-7BDDE400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10214-A074-4D1E-9BB5-66BEC48D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E1F27-627A-42C6-8DA6-1D09147E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92923-7B11-4EA9-B381-FF216420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2A6A2-126D-4DA6-B216-DE11B56D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1073C-F230-4A30-AB82-90AD244E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CF2-69C5-4AE7-AE91-94D2FB56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17D2B-14AE-4582-A4F6-B929F840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A57FF-5E62-4458-BD79-2648A315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E5D6F-DC8F-4143-AB67-D26EA3EF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55A9C-9AE5-43B4-A5A7-B01AD017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19334-06ED-409B-AD4E-FA141FBF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A3C43-49B6-4669-AFF5-D1F58E2D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A6F2A-48D9-4EEE-9B0E-A1B789B6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320E3-9DD5-4DD3-9FD9-26971F00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767D2-8EB3-43DF-AD1E-B2961FF9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8D4DD-2940-431D-89A7-200B7997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BF1B-C1F3-44B7-B408-69AD68D8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36234-4BD5-4703-BE7F-90B249F7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D3BCA-788B-4C77-BAA7-0B3640E4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1BEFE-34C3-45FE-8E9B-EDA213E3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0253C-7FCF-4D72-9415-BDD333AF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AE756-EEFF-4FD8-A23D-CC567AF0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01BDD-3E55-4043-9FF2-DFE76843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AF963-3435-41E6-BA30-0EAF64CF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9F8F5-7777-4436-85B6-8289549E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82A12-B247-4CA1-9119-58096258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EA93F-69E7-400F-8F87-9F3154D2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2B44-59FF-4C7D-A12A-2DD04963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42EE2-564E-4C52-9244-756B0C17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ED136-DEBB-4319-8DDD-CA8143AA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63E91-A1C8-485E-A28B-D5EC9BEF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0DFF8-0AC9-4138-82F1-B0F560DC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1A793-A35D-478D-8D21-240B2A8B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CE91C-D8D8-45DC-B06C-3308EDBE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8D982-4596-4A1D-B4A9-3BB2068B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43D23-D05E-4797-87F1-8D56F095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3F298-0E34-479D-88C3-0E07AF2F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6A04B-264A-420D-BC95-C1E8D90F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362-187E-4C9A-B45C-2F943F5D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09B21-E2A8-462A-9CBC-6C5C6539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18EE5-456C-498A-A8C5-4B5FAE68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5EDD6-6237-4FD7-80FA-92BE05BD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B5587-F6FB-4FC2-AA00-9CD53A36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A5F3F-7E30-4A26-A476-6A508479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C6833-AF3C-4FAA-B41C-5B775763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F6ECA-64D3-42B5-A72F-35FD814E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21140-7E67-486A-8734-D71B9485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5CFBB-0387-4728-B6DD-3B457E47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B6567-08B6-4119-AC0F-CBB791A5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03D6-6D13-491A-A340-C4385FFF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F1D5B-315C-4AEA-A814-4A9BB6DA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BAECB-1755-4720-BD56-F0571630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6D796-34CE-496F-9A9D-CD30A194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49010-7EDF-47B3-8E79-75436A7A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DDDFD-5A25-4622-BF4C-C9AA3BA0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D211B-6090-43A3-ADB7-313BA7A5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3845B-DA4A-4049-979E-78348CDA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1A1A4-7B9D-43AE-AEFE-B0B64749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267C7-FE27-4868-AB6F-24BAC805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E8966-793F-4427-BE0B-95DB901E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4955-E983-4532-919B-8548F47A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53E25-42DF-46A2-8FFF-5769716F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2D717-339E-42BD-8901-965735BE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B81F2-4C35-478F-B4E3-6D658853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20FDB-96CF-4976-B1FD-46DDAEB1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7C998-7678-44FE-9A58-C2B4DC4E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EB9E0-E0FC-4F8D-A33B-DAED573B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FDDDF-FC7F-4E59-9C4B-C4537B48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88D26-BF19-4966-AA52-259597BD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2E50C-2FA4-4652-9C97-58606870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E1621-8A37-4B65-84F4-DEDA66E4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9742-5905-4517-AB3D-B5C3B6C7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FB1CB-F117-482E-8CA4-9533E179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A066F-2979-41CD-B3CA-4DA8C594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36186-323C-44DB-9D53-10ED57C7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878AC-2C85-41EB-9B4C-DB980ECF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7CCF9-A08C-4E96-8A42-65A53FA6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8BE2E-894F-464B-8E33-FAD676B0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99243-BF4E-4262-AFF9-61B6BADB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CA0E9-2863-4A0F-9FF8-31D95F51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41AA1-6958-4A54-A977-AC762CC9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79347-719F-4F48-BC3E-EE5C4881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9FD0-3692-463F-A5FE-087A24296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2F1E-F078-497E-940E-FCEC40F2C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478A-A2A5-4848-BF67-304C515D7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2EB2-A69D-4547-BE8A-0FD12F2C6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1E79-9F1A-43FF-91ED-BA3CE6689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7DBE-F1AB-4993-BBE8-25C34631E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20D9-1A66-4F31-94EC-7AF97908B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AB26-4310-4427-A3C3-E0A817423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4D77-5EF2-45B7-A016-88F890785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8002-C80C-4FCB-A4B4-20396FBE6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D78D-A515-46A3-9232-0D7AB854E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C8E4-A76B-44B4-8CE1-9A5FECA53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../../&#25105;&#30340;&#38899;&#20048;/Read%20and%20chant.mp3" TargetMode="External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3"/>
          <p:cNvSpPr txBox="1"/>
          <p:nvPr/>
        </p:nvSpPr>
        <p:spPr>
          <a:xfrm>
            <a:off x="755640" y="2349360"/>
            <a:ext cx="7632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hat day is today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689760" y="1752480"/>
            <a:ext cx="26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 Year’s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688320" y="2286000"/>
            <a:ext cx="296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ee Planting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687240" y="289548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688320" y="350532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ldren’s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687600" y="4114800"/>
            <a:ext cx="27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ril Fool’s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688320" y="4724280"/>
            <a:ext cx="24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istmas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687600" y="533412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ational Workers’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6096960" y="1676520"/>
            <a:ext cx="18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nuar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6173640" y="2209680"/>
            <a:ext cx="16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ch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1"/>
          <p:cNvSpPr/>
          <p:nvPr/>
        </p:nvSpPr>
        <p:spPr>
          <a:xfrm>
            <a:off x="6174360" y="2819520"/>
            <a:ext cx="16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tob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6174000" y="342900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un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3"/>
          <p:cNvSpPr/>
          <p:nvPr/>
        </p:nvSpPr>
        <p:spPr>
          <a:xfrm>
            <a:off x="6174000" y="4038480"/>
            <a:ext cx="125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ril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4"/>
          <p:cNvSpPr/>
          <p:nvPr/>
        </p:nvSpPr>
        <p:spPr>
          <a:xfrm>
            <a:off x="6175440" y="464832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ember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5"/>
          <p:cNvSpPr/>
          <p:nvPr/>
        </p:nvSpPr>
        <p:spPr>
          <a:xfrm>
            <a:off x="6173280" y="5257800"/>
            <a:ext cx="113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6"/>
          <p:cNvSpPr/>
          <p:nvPr/>
        </p:nvSpPr>
        <p:spPr>
          <a:xfrm>
            <a:off x="685800" y="5943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achers’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7"/>
          <p:cNvSpPr/>
          <p:nvPr/>
        </p:nvSpPr>
        <p:spPr>
          <a:xfrm>
            <a:off x="6172200" y="5867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ptemb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8"/>
          <p:cNvSpPr/>
          <p:nvPr/>
        </p:nvSpPr>
        <p:spPr>
          <a:xfrm>
            <a:off x="685800" y="22860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: When is …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9"/>
          <p:cNvSpPr/>
          <p:nvPr/>
        </p:nvSpPr>
        <p:spPr>
          <a:xfrm>
            <a:off x="4788000" y="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: It is in/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0"/>
          <p:cNvSpPr/>
          <p:nvPr/>
        </p:nvSpPr>
        <p:spPr>
          <a:xfrm>
            <a:off x="609480" y="1143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pring Fest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1"/>
          <p:cNvSpPr/>
          <p:nvPr/>
        </p:nvSpPr>
        <p:spPr>
          <a:xfrm>
            <a:off x="5257800" y="11430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nuary or Febru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457200" y="0"/>
            <a:ext cx="8381880" cy="70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)  New Year’s Day                         A:  June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) Tree Planting Day                      B: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Day                               C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tob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) Children’s Day                            D: March 1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) April Fool’s Day                          E: December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) Christmas Day                            F: April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) International Workers’ Day     G: Ma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) Teachers’ Day                             H: Januar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0" y="3208320"/>
            <a:ext cx="91440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5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685800" y="152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6858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609480" y="1905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7"/>
          <p:cNvSpPr/>
          <p:nvPr/>
        </p:nvSpPr>
        <p:spPr>
          <a:xfrm>
            <a:off x="609480" y="2666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609480" y="3581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9"/>
          <p:cNvSpPr/>
          <p:nvPr/>
        </p:nvSpPr>
        <p:spPr>
          <a:xfrm>
            <a:off x="609480" y="4419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0"/>
          <p:cNvSpPr/>
          <p:nvPr/>
        </p:nvSpPr>
        <p:spPr>
          <a:xfrm>
            <a:off x="609480" y="5334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1"/>
          <p:cNvSpPr/>
          <p:nvPr/>
        </p:nvSpPr>
        <p:spPr>
          <a:xfrm>
            <a:off x="609480" y="6095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>
            <a:off x="536040" y="121932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: How old a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"/>
          <p:cNvSpPr/>
          <p:nvPr/>
        </p:nvSpPr>
        <p:spPr>
          <a:xfrm>
            <a:off x="5108760" y="1219320"/>
            <a:ext cx="32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: I am ... years 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536040" y="1905120"/>
            <a:ext cx="42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: When is your birth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5205960" y="190512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: My birthday is (on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535320" y="2590920"/>
            <a:ext cx="35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: What day is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5184000" y="259092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: It’s Wednes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8"/>
          <p:cNvSpPr/>
          <p:nvPr/>
        </p:nvSpPr>
        <p:spPr>
          <a:xfrm>
            <a:off x="535680" y="3276720"/>
            <a:ext cx="45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: What da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yester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5184000" y="3276720"/>
            <a:ext cx="30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: I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ues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0"/>
          <p:cNvSpPr/>
          <p:nvPr/>
        </p:nvSpPr>
        <p:spPr>
          <a:xfrm>
            <a:off x="536400" y="4724280"/>
            <a:ext cx="41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: What’s the date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1"/>
          <p:cNvSpPr/>
          <p:nvPr/>
        </p:nvSpPr>
        <p:spPr>
          <a:xfrm>
            <a:off x="5109120" y="4724280"/>
            <a:ext cx="32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: It’s December 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533520" y="4038480"/>
            <a:ext cx="441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: What day is it tomor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5257800" y="40384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: It’s Thurs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1523880" y="304920"/>
            <a:ext cx="6477120" cy="78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What day is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Today is Mon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Monday, Tuesday, Wednes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What day is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Thursday, Friday, Satur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What day is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Sunday, Sunday, Sun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Today is a fun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3" descr="Boy13"/>
          <p:cNvPicPr/>
          <p:nvPr/>
        </p:nvPicPr>
        <p:blipFill>
          <a:blip r:embed="rId1"/>
          <a:stretch/>
        </p:blipFill>
        <p:spPr>
          <a:xfrm>
            <a:off x="-533520" y="0"/>
            <a:ext cx="274320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ls121"/>
          <p:cNvPicPr/>
          <p:nvPr/>
        </p:nvPicPr>
        <p:blipFill>
          <a:blip r:embed="rId1"/>
          <a:stretch/>
        </p:blipFill>
        <p:spPr>
          <a:xfrm>
            <a:off x="5364000" y="333360"/>
            <a:ext cx="3659400" cy="56880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2890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ad and ch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hat day is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oday is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hat day is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oda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hat day is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oda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oday is a fun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5" descr="day14"/>
          <p:cNvPicPr/>
          <p:nvPr/>
        </p:nvPicPr>
        <p:blipFill>
          <a:blip r:embed="rId3"/>
          <a:stretch/>
        </p:blipFill>
        <p:spPr>
          <a:xfrm>
            <a:off x="2124000" y="1341360"/>
            <a:ext cx="1368360" cy="5461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6" descr="day14"/>
          <p:cNvPicPr/>
          <p:nvPr/>
        </p:nvPicPr>
        <p:blipFill>
          <a:blip r:embed="rId4"/>
          <a:stretch/>
        </p:blipFill>
        <p:spPr>
          <a:xfrm>
            <a:off x="611280" y="1916280"/>
            <a:ext cx="1295280" cy="5173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7" descr="day6"/>
          <p:cNvPicPr/>
          <p:nvPr/>
        </p:nvPicPr>
        <p:blipFill>
          <a:blip r:embed="rId5"/>
          <a:stretch/>
        </p:blipFill>
        <p:spPr>
          <a:xfrm>
            <a:off x="2124000" y="1916280"/>
            <a:ext cx="1368360" cy="5457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8" descr="day5"/>
          <p:cNvPicPr/>
          <p:nvPr/>
        </p:nvPicPr>
        <p:blipFill>
          <a:blip r:embed="rId6"/>
          <a:stretch/>
        </p:blipFill>
        <p:spPr>
          <a:xfrm>
            <a:off x="3851280" y="1989000"/>
            <a:ext cx="1368360" cy="546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9" descr="day12"/>
          <p:cNvPicPr/>
          <p:nvPr/>
        </p:nvPicPr>
        <p:blipFill>
          <a:blip r:embed="rId7"/>
          <a:stretch/>
        </p:blipFill>
        <p:spPr>
          <a:xfrm>
            <a:off x="3851280" y="3429000"/>
            <a:ext cx="1368360" cy="5475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0" descr="day1"/>
          <p:cNvPicPr/>
          <p:nvPr/>
        </p:nvPicPr>
        <p:blipFill>
          <a:blip r:embed="rId8"/>
          <a:stretch/>
        </p:blipFill>
        <p:spPr>
          <a:xfrm>
            <a:off x="2195640" y="3429000"/>
            <a:ext cx="1368360" cy="5461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1" descr="day8"/>
          <p:cNvPicPr/>
          <p:nvPr/>
        </p:nvPicPr>
        <p:blipFill>
          <a:blip r:embed="rId9"/>
          <a:stretch/>
        </p:blipFill>
        <p:spPr>
          <a:xfrm>
            <a:off x="2195640" y="2852640"/>
            <a:ext cx="1368360" cy="5479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2" descr="day8"/>
          <p:cNvPicPr/>
          <p:nvPr/>
        </p:nvPicPr>
        <p:blipFill>
          <a:blip r:embed="rId10"/>
          <a:stretch/>
        </p:blipFill>
        <p:spPr>
          <a:xfrm>
            <a:off x="611280" y="3429000"/>
            <a:ext cx="1296720" cy="5191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3" descr="day10"/>
          <p:cNvPicPr/>
          <p:nvPr/>
        </p:nvPicPr>
        <p:blipFill>
          <a:blip r:embed="rId11"/>
          <a:stretch/>
        </p:blipFill>
        <p:spPr>
          <a:xfrm>
            <a:off x="2195640" y="4365720"/>
            <a:ext cx="1439640" cy="5745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4" descr="day10"/>
          <p:cNvPicPr/>
          <p:nvPr/>
        </p:nvPicPr>
        <p:blipFill>
          <a:blip r:embed="rId12"/>
          <a:stretch/>
        </p:blipFill>
        <p:spPr>
          <a:xfrm>
            <a:off x="611280" y="5013360"/>
            <a:ext cx="1368360" cy="5461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5" descr="day10"/>
          <p:cNvPicPr/>
          <p:nvPr/>
        </p:nvPicPr>
        <p:blipFill>
          <a:blip r:embed="rId13"/>
          <a:stretch/>
        </p:blipFill>
        <p:spPr>
          <a:xfrm>
            <a:off x="2195640" y="5013360"/>
            <a:ext cx="1368360" cy="5475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6" descr="day10"/>
          <p:cNvPicPr/>
          <p:nvPr/>
        </p:nvPicPr>
        <p:blipFill>
          <a:blip r:embed="rId14"/>
          <a:stretch/>
        </p:blipFill>
        <p:spPr>
          <a:xfrm>
            <a:off x="3851280" y="5013360"/>
            <a:ext cx="1368360" cy="5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WordArt 2"/>
          <p:cNvSpPr txBox="1"/>
          <p:nvPr/>
        </p:nvSpPr>
        <p:spPr>
          <a:xfrm>
            <a:off x="1835280" y="1197000"/>
            <a:ext cx="511308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odbye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1828800" y="685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1828800" y="1066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1828800" y="1523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1828800" y="19810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1828800" y="2438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f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1828800" y="2895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1828800" y="3352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9"/>
          <p:cNvSpPr/>
          <p:nvPr/>
        </p:nvSpPr>
        <p:spPr>
          <a:xfrm>
            <a:off x="1828800" y="38862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igh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1828800" y="4343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i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1"/>
          <p:cNvSpPr/>
          <p:nvPr/>
        </p:nvSpPr>
        <p:spPr>
          <a:xfrm>
            <a:off x="1828800" y="4800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2"/>
          <p:cNvSpPr/>
          <p:nvPr/>
        </p:nvSpPr>
        <p:spPr>
          <a:xfrm>
            <a:off x="1828800" y="5334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ve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3"/>
          <p:cNvSpPr/>
          <p:nvPr/>
        </p:nvSpPr>
        <p:spPr>
          <a:xfrm>
            <a:off x="1828800" y="58672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elf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4"/>
          <p:cNvSpPr/>
          <p:nvPr/>
        </p:nvSpPr>
        <p:spPr>
          <a:xfrm>
            <a:off x="2819520" y="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dinal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5"/>
          <p:cNvSpPr/>
          <p:nvPr/>
        </p:nvSpPr>
        <p:spPr>
          <a:xfrm>
            <a:off x="5945760" y="609480"/>
            <a:ext cx="17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tee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5946120" y="106668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ee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5945760" y="152388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ee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5945040" y="198108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ee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9"/>
          <p:cNvSpPr/>
          <p:nvPr/>
        </p:nvSpPr>
        <p:spPr>
          <a:xfrm>
            <a:off x="5945400" y="2438280"/>
            <a:ext cx="19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ee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0"/>
          <p:cNvSpPr/>
          <p:nvPr/>
        </p:nvSpPr>
        <p:spPr>
          <a:xfrm>
            <a:off x="5945760" y="289548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ightee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1"/>
          <p:cNvSpPr/>
          <p:nvPr/>
        </p:nvSpPr>
        <p:spPr>
          <a:xfrm>
            <a:off x="5946120" y="342900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netee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2"/>
          <p:cNvSpPr/>
          <p:nvPr/>
        </p:nvSpPr>
        <p:spPr>
          <a:xfrm>
            <a:off x="5946120" y="388620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enti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3"/>
          <p:cNvSpPr/>
          <p:nvPr/>
        </p:nvSpPr>
        <p:spPr>
          <a:xfrm>
            <a:off x="5945760" y="441972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enty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4"/>
          <p:cNvSpPr/>
          <p:nvPr/>
        </p:nvSpPr>
        <p:spPr>
          <a:xfrm>
            <a:off x="5946480" y="4952880"/>
            <a:ext cx="213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enty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i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5"/>
          <p:cNvSpPr/>
          <p:nvPr/>
        </p:nvSpPr>
        <p:spPr>
          <a:xfrm>
            <a:off x="5945400" y="548640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irti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6"/>
          <p:cNvSpPr/>
          <p:nvPr/>
        </p:nvSpPr>
        <p:spPr>
          <a:xfrm>
            <a:off x="5869080" y="5943600"/>
            <a:ext cx="18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ty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2590920" y="45720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ays of the We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1905120" y="22096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1905120" y="2895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1905120" y="3581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5181480" y="13716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905120" y="1447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525780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5257800" y="2895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atu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1905120" y="47242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 the …day of the we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5181480" y="6094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1523880" y="1905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1523880" y="609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u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5181480" y="19051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523880" y="31240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5181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1523880" y="43434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atu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1523880" y="914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an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1523880" y="1600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br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1447920" y="2286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1447920" y="29718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pr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1447920" y="3733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1371600" y="4419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5410080" y="9907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5410080" y="1600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g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5410080" y="22860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pt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5410080" y="2971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cto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5410080" y="3657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v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3"/>
          <p:cNvSpPr/>
          <p:nvPr/>
        </p:nvSpPr>
        <p:spPr>
          <a:xfrm>
            <a:off x="5410080" y="4419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c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4"/>
          <p:cNvSpPr/>
          <p:nvPr/>
        </p:nvSpPr>
        <p:spPr>
          <a:xfrm>
            <a:off x="1600200" y="472428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5"/>
          <p:cNvSpPr/>
          <p:nvPr/>
        </p:nvSpPr>
        <p:spPr>
          <a:xfrm>
            <a:off x="1525320" y="53341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 the … month of th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6"/>
          <p:cNvSpPr/>
          <p:nvPr/>
        </p:nvSpPr>
        <p:spPr>
          <a:xfrm>
            <a:off x="2514600" y="30492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onths of the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1373040" y="76212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an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5107680" y="762120"/>
            <a:ext cx="25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ebr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1373760" y="160020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5107320" y="152388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pr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1373400" y="2362320"/>
            <a:ext cx="15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5106960" y="236232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J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1373400" y="312408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J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5106240" y="304812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ug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1373400" y="3809880"/>
            <a:ext cx="27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ept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5108040" y="3809880"/>
            <a:ext cx="22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cto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1371600" y="4648320"/>
            <a:ext cx="28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ov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5107680" y="4648320"/>
            <a:ext cx="26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c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304920" y="10666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oday is December 22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380880" y="220968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was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December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2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304920" y="35812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omorrow is December 23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304920" y="91440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: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hat day is toda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80880" y="1981080"/>
            <a:ext cx="65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: It’s Wednesda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04920" y="304812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: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hat’s the date toda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304920" y="419112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: It’s December 2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0" y="1295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A: When is your birthda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0" y="25909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B: My birthday is (on)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3-12-10T02:22:12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07000000000001024120</vt:lpwstr>
  </property>
  <property fmtid="{D5CDD505-2E9C-101B-9397-08002B2CF9AE}" pid="3" name="Version">
    <vt:r8>1</vt:r8>
  </property>
</Properties>
</file>